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87149-6217-48A0-AE2B-16CA71C0642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AE4-28BD-4234-AD9F-A4C1D58C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6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041640"/>
            <a:ext cx="9066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8D2-9C74-4DCB-82DD-4C86A85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04164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04164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AC3-71D5-45A3-9F83-5E0787CF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040" y="132696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4440" y="132696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04164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040" y="304164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4440" y="3041640"/>
            <a:ext cx="2919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565-6011-47B3-A859-E949CE2C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62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E4D-7603-44C5-8770-FF49247A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62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386-DA32-47AC-9390-3D4F6B3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0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326960"/>
            <a:ext cx="44240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57F-E8E2-4D65-ADAA-387EB4C8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9D3-88C8-45C2-A013-A06EE079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225000"/>
            <a:ext cx="9066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83C-64FA-4FDE-8FBF-8370F45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326960"/>
            <a:ext cx="44240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04164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23C-991C-4C0D-9B5E-39A974D4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0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04164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737-D2F5-4AF7-B421-50B2FDC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326960"/>
            <a:ext cx="44240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041640"/>
            <a:ext cx="9066240" cy="15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A48-8C54-410A-AC6A-5A5A8D0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000"/>
            <a:ext cx="9066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624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3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5165640"/>
            <a:ext cx="31906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640"/>
            <a:ext cx="2343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E3E99-DA0E-4174-AB8E-94E26E7771D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10152000" cy="570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0520" y="-19080"/>
            <a:ext cx="101725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95280" y="2160720"/>
            <a:ext cx="10728360" cy="12952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2720" y="2232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4000" spc="-1" strike="noStrike">
                <a:solidFill>
                  <a:srgbClr val="007826"/>
                </a:solidFill>
                <a:latin typeface="Tahoma"/>
              </a:rPr>
              <a:t>Títul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0" y="2952720"/>
            <a:ext cx="61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1800" spc="-1" strike="noStrike">
                <a:solidFill>
                  <a:srgbClr val="007826"/>
                </a:solidFill>
                <a:latin typeface="Tahoma"/>
              </a:rPr>
              <a:t>Subtítulo ou linha fina da apres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2000" y="3708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uu-CG" sz="1800" spc="-1" strike="noStrike">
                <a:solidFill>
                  <a:srgbClr val="007826"/>
                </a:solidFill>
                <a:latin typeface="Tahoma"/>
              </a:rPr>
              <a:t>Autor da apres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55640" y="1258920"/>
            <a:ext cx="669636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e </a:t>
            </a:r>
            <a:r>
              <a:rPr b="0" lang="pt-BR" sz="2000" spc="-1" strike="noStrike">
                <a:solidFill>
                  <a:srgbClr val="666666"/>
                </a:solidFill>
                <a:latin typeface="Tahoma"/>
              </a:rPr>
              <a:t>padrão</a:t>
            </a: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 de forma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a margem esquer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Evite textos long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Lembre-se: apresentação não é papel, não tem que economizar página, por isso não se acanhe em espalhar a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5640" y="287280"/>
            <a:ext cx="64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2800" spc="-1" strike="noStrike">
                <a:solidFill>
                  <a:srgbClr val="007826"/>
                </a:solidFill>
                <a:latin typeface="Tahoma"/>
              </a:rPr>
              <a:t>Título do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152000" cy="570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18:11:42Z</dcterms:created>
  <dc:creator/>
  <dc:description/>
  <dc:language>en-US</dc:language>
  <cp:lastModifiedBy/>
  <dcterms:modified xsi:type="dcterms:W3CDTF">2017-09-26T14:22:07Z</dcterms:modified>
  <cp:revision>11</cp:revision>
  <dc:subject/>
  <dc:title/>
</cp:coreProperties>
</file>