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10156320"/>
            <a:ext cx="327492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320"/>
            <a:ext cx="327492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03C35-80FC-4D17-A329-7868190821E2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26AC-73F1-4EE8-9D89-EC83E29D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225000"/>
            <a:ext cx="906444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44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2920" y="3041280"/>
            <a:ext cx="90644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6D57-E155-4A99-8FE4-3E94D9F9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225000"/>
            <a:ext cx="906444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332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7640" y="1327320"/>
            <a:ext cx="442332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2920" y="3041280"/>
            <a:ext cx="442332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7640" y="3041280"/>
            <a:ext cx="442332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E8D3-A7AE-4577-A47F-D787B952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2920" y="225000"/>
            <a:ext cx="906444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852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7600" y="1327320"/>
            <a:ext cx="291852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2640" y="1327320"/>
            <a:ext cx="291852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920" y="3041280"/>
            <a:ext cx="291852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7600" y="3041280"/>
            <a:ext cx="291852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2640" y="3041280"/>
            <a:ext cx="291852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CD5A-AF25-4C4C-839F-6294A2A2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225000"/>
            <a:ext cx="906444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4440" cy="32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A9EA-2C41-4B6B-9B91-F3746658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225000"/>
            <a:ext cx="906444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4440" cy="3281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814C-49F3-4F78-8B1F-2B060835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225000"/>
            <a:ext cx="906444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3320" cy="3281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7640" y="1327320"/>
            <a:ext cx="4423320" cy="3281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E53E-B324-46C5-B649-8B62A0CA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225000"/>
            <a:ext cx="906444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D6C5-D50E-4E96-B6D4-792BB2CF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2920" y="225000"/>
            <a:ext cx="9064440" cy="43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F615-CFBA-403A-A41D-F90C9137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225000"/>
            <a:ext cx="906444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332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7640" y="1327320"/>
            <a:ext cx="4423320" cy="3281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20" y="3041280"/>
            <a:ext cx="442332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31FB-7CFB-4A8B-9924-3442B917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225000"/>
            <a:ext cx="906444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3320" cy="3281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7640" y="1327320"/>
            <a:ext cx="442332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7640" y="3041280"/>
            <a:ext cx="442332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B654-7343-4F4A-ABD3-24839AE4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225000"/>
            <a:ext cx="906444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332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7640" y="1327320"/>
            <a:ext cx="442332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2920" y="3041280"/>
            <a:ext cx="90644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790E-367F-4104-98DC-5900716F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000"/>
            <a:ext cx="906444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4440" cy="3281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5165280"/>
            <a:ext cx="23414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5165280"/>
            <a:ext cx="31892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5165280"/>
            <a:ext cx="2341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7FC04-DBB7-4CF6-9261-CDEDB3DCD1C6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-4680"/>
            <a:ext cx="10152000" cy="570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20520" y="-19080"/>
            <a:ext cx="10172520" cy="5715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70040" y="858960"/>
            <a:ext cx="4111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uu-CG" sz="4000" spc="-1" strike="noStrike">
                <a:solidFill>
                  <a:srgbClr val="006600"/>
                </a:solidFill>
                <a:latin typeface="Tahoma"/>
              </a:rPr>
              <a:t>Título 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uu-CG" sz="4000" spc="-1" strike="noStrike">
                <a:solidFill>
                  <a:srgbClr val="006600"/>
                </a:solidFill>
                <a:latin typeface="Tahoma"/>
              </a:rPr>
              <a:t>Apresent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46240" y="2176560"/>
            <a:ext cx="4576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uu-CG" sz="2000" spc="-1" strike="noStrike">
                <a:solidFill>
                  <a:srgbClr val="006600"/>
                </a:solidFill>
                <a:latin typeface="Tahoma"/>
              </a:rPr>
              <a:t>Subtítulo ou linha fina da apresen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78320" y="4087800"/>
            <a:ext cx="2749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uu-CG" sz="2000" spc="-1" strike="noStrike">
                <a:solidFill>
                  <a:srgbClr val="66cc00"/>
                </a:solidFill>
                <a:latin typeface="Tahoma"/>
              </a:rPr>
              <a:t>Autor da apresen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55640" y="1619280"/>
            <a:ext cx="7488360" cy="42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0960" indent="-210960">
              <a:lnSpc>
                <a:spcPct val="101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uu-CG" sz="2000" spc="-1" strike="noStrike">
                <a:solidFill>
                  <a:srgbClr val="666666"/>
                </a:solidFill>
                <a:latin typeface="Tahoma"/>
              </a:rPr>
              <a:t>Mantenha esse </a:t>
            </a:r>
            <a:r>
              <a:rPr b="0" lang="pt-BR" sz="2000" spc="-1" strike="noStrike">
                <a:solidFill>
                  <a:srgbClr val="666666"/>
                </a:solidFill>
                <a:latin typeface="Tahoma"/>
              </a:rPr>
              <a:t>padrão</a:t>
            </a:r>
            <a:r>
              <a:rPr b="0" lang="puu-CG" sz="2000" spc="-1" strike="noStrike">
                <a:solidFill>
                  <a:srgbClr val="666666"/>
                </a:solidFill>
                <a:latin typeface="Tahoma"/>
              </a:rPr>
              <a:t> de formata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lnSpc>
                <a:spcPct val="151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uu-CG" sz="2000" spc="-1" strike="noStrike">
                <a:solidFill>
                  <a:srgbClr val="666666"/>
                </a:solidFill>
                <a:latin typeface="Tahoma"/>
              </a:rPr>
              <a:t>Mantenha essa margem esquerd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lnSpc>
                <a:spcPct val="151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uu-CG" sz="2000" spc="-1" strike="noStrike">
                <a:solidFill>
                  <a:srgbClr val="666666"/>
                </a:solidFill>
                <a:latin typeface="Tahoma"/>
              </a:rPr>
              <a:t>Evite textos long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lnSpc>
                <a:spcPct val="151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uu-CG" sz="2000" spc="-1" strike="noStrike">
                <a:solidFill>
                  <a:srgbClr val="666666"/>
                </a:solidFill>
                <a:latin typeface="Tahoma"/>
              </a:rPr>
              <a:t>Lembre-se: apresentação não é papel, não tem que economizar página, por isso não se acanhe em espalhar a inform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92360" y="647640"/>
            <a:ext cx="640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uu-CG" sz="2200" spc="-1" strike="noStrike">
                <a:solidFill>
                  <a:srgbClr val="ff3333"/>
                </a:solidFill>
                <a:latin typeface="Tahoma"/>
              </a:rPr>
              <a:t>Título do sl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-1440" y="3240"/>
            <a:ext cx="10078920" cy="5668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3T18:11:42Z</dcterms:created>
  <dc:creator/>
  <dc:description/>
  <dc:language>en-US</dc:language>
  <cp:lastModifiedBy/>
  <dcterms:modified xsi:type="dcterms:W3CDTF">2017-08-21T16:55:15Z</dcterms:modified>
  <cp:revision>11</cp:revision>
  <dc:subject/>
  <dc:title/>
</cp:coreProperties>
</file>