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6311B-68B5-4945-907C-C2E9E6F41D5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F6B-6975-4FDC-86B7-AEB220D1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4BB-F0D0-4FA7-ABDA-DB57F14C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209-9EEB-4648-98B5-6F369785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FD0-6408-4909-9544-BCC73643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B34-634F-4C3C-B41A-E35B2754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07C-2820-435D-964F-9F14EEBE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5B7-D4D3-45BA-8257-A87FCB71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4E6-D481-4B44-95E0-F159C57A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889-FDD1-4008-92D6-1A02A820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397-61F6-40F5-B5D1-8F5A86DF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30A-26E6-40CC-BC86-9904663D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DFF-CA52-4000-BF27-3DAD2D00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79DFE-F711-4E36-A039-4BF9DCCAA0D2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10152000" cy="570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20520" y="-19080"/>
            <a:ext cx="1017252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78400" y="858960"/>
            <a:ext cx="4111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uu-CG" sz="4000" spc="-1" strike="noStrike">
                <a:solidFill>
                  <a:srgbClr val="006600"/>
                </a:solidFill>
                <a:latin typeface="Tahoma"/>
              </a:rPr>
              <a:t>Título 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uu-CG" sz="4000" spc="-1" strike="noStrike">
                <a:solidFill>
                  <a:srgbClr val="006600"/>
                </a:solidFill>
                <a:latin typeface="Tahoma"/>
              </a:rPr>
              <a:t>Apresen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040" y="2176560"/>
            <a:ext cx="4576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006600"/>
                </a:solidFill>
                <a:latin typeface="Tahoma"/>
              </a:rPr>
              <a:t>Subtítulo ou linha fina da apres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86320" y="3800520"/>
            <a:ext cx="4576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cc00"/>
                </a:solidFill>
                <a:latin typeface="Tahoma"/>
              </a:rPr>
              <a:t>Autor da apres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55640" y="1258920"/>
            <a:ext cx="748836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4200" indent="-214200">
              <a:lnSpc>
                <a:spcPct val="101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Mantenha esse </a:t>
            </a:r>
            <a:r>
              <a:rPr b="0" lang="pt-BR" sz="2000" spc="-1" strike="noStrike">
                <a:solidFill>
                  <a:srgbClr val="666666"/>
                </a:solidFill>
                <a:latin typeface="Tahoma"/>
              </a:rPr>
              <a:t>padrão</a:t>
            </a: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 de format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1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Mantenha essa margem esquer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1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Evite textos long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1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uu-CG" sz="2000" spc="-1" strike="noStrike">
                <a:solidFill>
                  <a:srgbClr val="666666"/>
                </a:solidFill>
                <a:latin typeface="Tahoma"/>
              </a:rPr>
              <a:t>Lembre-se: apresentação não é papel, não tem que economizar página, por isso não se acanhe em espalhar a inform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87280"/>
            <a:ext cx="640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uu-CG" sz="2200" spc="-1" strike="noStrike">
                <a:solidFill>
                  <a:srgbClr val="ff3333"/>
                </a:solidFill>
                <a:latin typeface="Tahoma"/>
              </a:rPr>
              <a:t>Título do sl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440" y="3240"/>
            <a:ext cx="10078920" cy="566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18:11:42Z</dcterms:created>
  <dc:creator/>
  <dc:description/>
  <dc:language>en-US</dc:language>
  <cp:lastModifiedBy/>
  <dcterms:modified xsi:type="dcterms:W3CDTF">2017-08-10T20:00:54Z</dcterms:modified>
  <cp:revision>8</cp:revision>
  <dc:subject/>
  <dc:title/>
</cp:coreProperties>
</file>